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81B-B4C6-48B7-A2BE-A1992875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A2C-712C-47FD-8A43-27CBB4F3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E3C-43E1-460A-8D24-89F6CFEB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C1C-C77B-4CAA-B11B-09230920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057-E412-448C-AD91-4CBAFCF4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BBA-1DA7-494E-B993-8A3BD37A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AD7-0AA7-4BFE-BED2-1B6FFBC1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BFA-94DC-4E8D-975E-FD2B12CC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84C-2941-448E-ADBD-803BEAAF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157-F439-4774-B9E3-8C40DCD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8FD-529F-4D78-AECB-1061778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6F7-9A75-473E-9F3F-BE8EB110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2A3F-A05E-42E7-8B35-3DCA9D6F1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Verdana"/>
              </a:rPr>
              <a:t>CHIN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14480" y="1719360"/>
            <a:ext cx="5315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China is governed by  the Communist Party since many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he Head of the Government is called Hu Jintao and the Prime Minister is Wen Jiaba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(In the pictures you can see the famous “Terracotta Soldi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230508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81480" y="3938760"/>
            <a:ext cx="23036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hina: location.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is located in the East of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 is a continent in the world. Asia is in the North Hemi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57680" y="1600200"/>
            <a:ext cx="401976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3938760"/>
            <a:ext cx="3505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PROVINCIES IN CHIN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is the second largest country in Asia and it is considered the third largest in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 is divided into many provi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map of China and its provi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BORDERS OF CHINA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na is the country with more border nation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has 14 border nations!:Vietnam, Laos, Burma, Bhutan, Nepal, Pakistan, Afghanistan, Tajikistan, Kyrgyzstan,Kazakhstan, Russia, Mongolia, and Noth Ko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5280" y="2386080"/>
            <a:ext cx="372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POPULATION AND RELIGION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a’s population is estimated at 1.300 millio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ch variety of religions can be found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hism, Islamism and Confucianism are the most common reli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22880" y="1600200"/>
            <a:ext cx="288936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LANGUAGE AND LANDSCAPE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j and Chinese Mandarin are the most spoken langu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erritory also contains a large variety of landscapes: 1.Alluvial plains in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a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Grassland in the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Nor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Low mountain ranges in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u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 Major mountain ranges ,the Himalayas, with China’s highest point, Mount Everest, in the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11800" y="1600200"/>
            <a:ext cx="270972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16680" y="3938760"/>
            <a:ext cx="3101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orth to South, there are five temperature z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 cold-temperate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 mid-temperate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 warm-temperate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A subtropical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 tropical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87800" y="1600200"/>
            <a:ext cx="33591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52880" y="3938760"/>
            <a:ext cx="3505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PROSPERITY AND PROBLEMS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economy has developed quite a lot recent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price China is paying for this increased prosperity is damage 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ution is one of the most serious threats facing China; and so is wate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987800" y="1600200"/>
            <a:ext cx="335772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22720" y="3938760"/>
            <a:ext cx="32878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HINESE FOOD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food is characterized by the use of: soybean, broad beans, turnip, radish, pork, dog, beef, red pepper ,garlic and gi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is prepared in bite-sized pieces ready for direct pick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chopsticks are used at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57800" y="3938760"/>
            <a:ext cx="2895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sgow Secondary Schools</cp:lastModifiedBy>
  <dcterms:modified xsi:type="dcterms:W3CDTF">2009-02-25T11:5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